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993-7CE9-4988-B87A-5D916433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84B-2CE7-42FC-B1C6-AAED64C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F50-FA69-4B0A-9DEF-09CE3AA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C58-B0C7-4D7A-A981-F420B52E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CA7-63DB-4B5F-943D-16E44CA3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0FC5-4B47-4C64-A5F2-3C87C6BF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B8D1-C8AD-4963-BD9F-C7899D41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AC44-0E89-41E9-9718-5533847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1CE9-4289-470C-9761-40AD5C93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06EA-566F-485E-B42A-5D9B80D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15D-9B7D-40BC-8CD7-BB5ACDC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5D2-161D-4119-A3EF-82CC4356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811C-1276-440C-BD21-88BC954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BE9-EC13-4D6F-8A31-5E3BABF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B31D-1ED6-4A91-A614-817F496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A4D-A4E5-4333-AF61-E34ECB96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03A-F3FE-4506-8701-475CEFA3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4C8-533B-4686-9AD7-E7963D9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659-7FFE-4E99-9192-DBE6202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E04-F620-4E2C-9C93-9D9A98A8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165-9893-49C1-AF1D-D68BB1ED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898-2C1A-468A-B65B-E25264B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D9A-FC86-4CF3-874D-9F77CE87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8C0-FC8C-475A-816E-37380D1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B2A-ECCB-44B8-AAC0-D2FE667F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F96-091A-4515-BA9F-79D5F6EA0D1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Italian family on ferry 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ps.ablongman.com/wps/media/objects/124/127330/images/1903.jpg"/>
          <p:cNvPicPr/>
          <p:nvPr/>
        </p:nvPicPr>
        <p:blipFill>
          <a:blip r:embed="rId1"/>
          <a:stretch/>
        </p:blipFill>
        <p:spPr>
          <a:xfrm>
            <a:off x="228600" y="12600"/>
            <a:ext cx="86104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Old-time steel worker on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6666" t="0" r="3331" b="8231"/>
          <a:stretch/>
        </p:blipFill>
        <p:spPr>
          <a:xfrm>
            <a:off x="228600" y="0"/>
            <a:ext cx="86104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rom Sicil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6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talians at Ellis Island.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A group of German immigra"/>
          <p:cNvPicPr/>
          <p:nvPr/>
        </p:nvPicPr>
        <p:blipFill>
          <a:blip r:embed="rId1"/>
          <a:stretch/>
        </p:blipFill>
        <p:spPr>
          <a:xfrm>
            <a:off x="0" y="0"/>
            <a:ext cx="9144000" cy="6586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Bohemian. Ellis Island (J"/>
          <p:cNvPicPr/>
          <p:nvPr/>
        </p:nvPicPr>
        <p:blipFill>
          <a:blip r:embed="rId2"/>
          <a:stretch/>
        </p:blipFill>
        <p:spPr>
          <a:xfrm>
            <a:off x="0" y="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938240" y="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5" name="Picture 2" descr="Climbing Into America. El"/>
          <p:cNvPicPr/>
          <p:nvPr/>
        </p:nvPicPr>
        <p:blipFill>
          <a:blip r:embed="rId1"/>
          <a:stretch/>
        </p:blipFill>
        <p:spPr>
          <a:xfrm>
            <a:off x="18176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2114640" y="-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7" name="Picture 2" descr="Ellis Island, Italian Mad"/>
          <p:cNvPicPr/>
          <p:nvPr/>
        </p:nvPicPr>
        <p:blipFill>
          <a:blip r:embed="rId1"/>
          <a:stretch/>
        </p:blipFill>
        <p:spPr>
          <a:xfrm>
            <a:off x="2247840" y="0"/>
            <a:ext cx="47815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talian mother &amp; child at"/>
          <p:cNvPicPr/>
          <p:nvPr/>
        </p:nvPicPr>
        <p:blipFill>
          <a:blip r:embed="rId2"/>
          <a:stretch/>
        </p:blipFill>
        <p:spPr>
          <a:xfrm>
            <a:off x="1828800" y="0"/>
            <a:ext cx="551016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ttp://upload.wikimedia.org/wikipedia/commons/thumb/e/ee/Madonna_and_Child_(Filippo_Lippi).jpg/395px-Madonna_and_Child_(Filippo_Lippi).jpg"/>
          <p:cNvPicPr/>
          <p:nvPr/>
        </p:nvPicPr>
        <p:blipFill>
          <a:blip r:embed="rId3"/>
          <a:srcRect l="0" t="14303" r="0" b="0"/>
          <a:stretch/>
        </p:blipFill>
        <p:spPr>
          <a:xfrm>
            <a:off x="182880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12868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1" name="Picture 2" descr="Italian family looking fo"/>
          <p:cNvPicPr/>
          <p:nvPr/>
        </p:nvPicPr>
        <p:blipFill>
          <a:blip r:embed="rId1"/>
          <a:srcRect l="0" t="10641" r="0" b="0"/>
          <a:stretch/>
        </p:blipFill>
        <p:spPr>
          <a:xfrm>
            <a:off x="213372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Ellis Island (Children 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ome of the so-called he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reaker boys in coal mine"/>
          <p:cNvPicPr/>
          <p:nvPr/>
        </p:nvPicPr>
        <p:blipFill>
          <a:blip r:embed="rId3"/>
          <a:stretch/>
        </p:blipFill>
        <p:spPr>
          <a:xfrm>
            <a:off x="152280" y="23760"/>
            <a:ext cx="87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posterous.com/getfile/files.posterous.com/styx/yuatIBdwFHAictaoovttJEphjmGEcoCuGjCbacwgIcseJFwmzmDhIjbBjCpp/media_httpuploadwikimediaorgwikipediacommonsthumb88eNYCMulberryStreet3g04637ujpg800pxNYCMulberryStreet3g04637ujpg_ChdJcddBowvcsFi.jpg.scaled1000.jpg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ewhopepa.com/PlanetEarth/NYC032103/Ellis_Island/NY8984_750.jpg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9:38Z</dcterms:created>
  <dc:creator>Authorized User</dc:creator>
  <dc:description/>
  <dc:language>en-US</dc:language>
  <cp:lastModifiedBy>Brent J. Freccia</cp:lastModifiedBy>
  <dcterms:modified xsi:type="dcterms:W3CDTF">2010-02-03T15:34:55Z</dcterms:modified>
  <cp:revision>9</cp:revision>
  <dc:subject/>
  <dc:title>PowerPoint Presentation</dc:title>
</cp:coreProperties>
</file>